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D69-2628-4936-9D76-C4B61F4E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443-2CF3-4FC2-8D0D-593705E2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5E9-5FAD-4750-9B3F-E08A4781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46E-3FE5-4175-AF57-CB7F9EDF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A7F-E5DD-4A47-A2E6-55C18D26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FA9-3C01-4285-B32A-17FB8361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BE8-68A4-4393-B88E-8CA6AF9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978-3ECD-4538-A885-51EFC264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9CF-6160-414B-9A1D-80B977D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10C-B022-40B2-85AA-5EE8D85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49E-3DBA-4776-A2F3-6F9CD888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513-FFEE-4D3B-8850-CB3E2915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9735-9C54-4A04-84A6-20F1C371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27280" y="1341360"/>
            <a:ext cx="34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8800" y="1916280"/>
            <a:ext cx="830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Why couldn't the skele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go to the Christmas Party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8160" y="285264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 had no body to go with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3080" y="1626120"/>
            <a:ext cx="456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Knock Knock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o's there ?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 who 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640" y="2565360"/>
            <a:ext cx="59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Mary Christma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08520" y="2467800"/>
            <a:ext cx="785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 does Father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rite on his Christmas cards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1628640"/>
            <a:ext cx="499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EFGHIJ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PQRSTUVWXY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No-L !!)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1520" y="2376720"/>
            <a:ext cx="511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 do snow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at for lunch 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40720" y="2276640"/>
            <a:ext cx="55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Icebergers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9480" y="23799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can Santa's slei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ssibly fly through the a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73080" y="2975040"/>
            <a:ext cx="65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would 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f you go by flying reinde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1492200"/>
            <a:ext cx="67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 you have in Decemb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at you don't have in any other month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7400" y="3040200"/>
            <a:ext cx="109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does Rudolph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Christmas is com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1280" y="292428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looks at his calen-?deer?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441360"/>
            <a:ext cx="66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24240" y="333360"/>
            <a:ext cx="4713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720" y="2565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letter "D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5440" y="2276640"/>
            <a:ext cx="650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es Father Christ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ffer from if he gets stu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 a chimney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31600" y="299736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nta Claustrophobi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39920" y="2376720"/>
            <a:ext cx="623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m, Can I have a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or Christmas 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33880" y="2925720"/>
            <a:ext cx="621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, you can have tur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ke everyone 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5360" y="2467800"/>
            <a:ext cx="700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the best thing to p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o a Christmas cake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9240" y="24922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Your teeth 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52:38Z</dcterms:created>
  <dc:creator>MCC</dc:creator>
  <dc:description/>
  <dc:language>en-US</dc:language>
  <cp:lastModifiedBy>MCC</cp:lastModifiedBy>
  <dcterms:modified xsi:type="dcterms:W3CDTF">2010-12-17T12:37:31Z</dcterms:modified>
  <cp:revision>4</cp:revision>
  <dc:subject/>
  <dc:title>Diapositiva 1</dc:title>
</cp:coreProperties>
</file>